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BEE-CA9D-462A-A45B-A0F260E3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65D-DCA5-4C36-832A-9D46A702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C81-19D1-449A-8D04-9518D082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1EE-1D53-4752-9197-75E96A73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951-2C6A-4386-8B50-321CDD3F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A30-FCFC-4D1C-8F51-7F1AC523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BB4-9BBC-41CD-A6A4-36F02ED2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D06-1AAD-43A8-8858-ED312CB7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270-FAC6-4F45-A6C0-BA35D5F4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D2D-DDD3-45A3-890A-F93FC9A3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9B1-C199-45E4-9FAC-3A016D13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DF9-F4D2-4166-A04E-006460D2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1868-32E1-4402-8A82-28ABF7B0B8B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ing AM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acid mine draina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388584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antha Bac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llwood-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– size of 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 leaves into equal size pi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leaves into circle the size of the bottom of the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 the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-Preparing the 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l cup with 150 milliliters of the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the leaves in th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pH meter into the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sit for one min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 each sample with plastic wrap to prevent evap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- T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1676160"/>
            <a:ext cx="8610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process 3 more times for a total of 4 t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or each type of lea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with no leaves for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pH every 2 to 4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erimental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fferent types of lea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mental Grou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 need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ak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le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5331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ol Gro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lea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 Variab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n from sam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starting 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turb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out of evap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n from sam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t into same size pie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sam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ibrated before data t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nsed between each s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ummary-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514600" y="6095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(in day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4"/>
          <p:cNvSpPr/>
          <p:nvPr/>
        </p:nvSpPr>
        <p:spPr>
          <a:xfrm rot="16200000">
            <a:off x="-1457280" y="3611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Chart 5" descr=""/>
          <p:cNvPicPr/>
          <p:nvPr/>
        </p:nvPicPr>
        <p:blipFill>
          <a:blip r:embed="rId1"/>
          <a:stretch/>
        </p:blipFill>
        <p:spPr>
          <a:xfrm>
            <a:off x="1292400" y="1670040"/>
            <a:ext cx="6638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the leaves made any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valid for short time fr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of the Ph 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that is very acidic is draining out of abandoned m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xpensive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M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09480" y="14479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he water flowing from abandoned m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usually contains high levels of ir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H around 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eddish-brown in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used by rocks contai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bundance of sulfide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80880" y="4191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acidic = Fe dissol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acidic  = Fe will set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4" descr="C:\Users\amf\Pictures\AMD pix\156.JPG"/>
          <p:cNvPicPr/>
          <p:nvPr/>
        </p:nvPicPr>
        <p:blipFill>
          <a:blip r:embed="rId1"/>
          <a:stretch/>
        </p:blipFill>
        <p:spPr>
          <a:xfrm>
            <a:off x="5105520" y="365760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ed wet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C:\Users\amf\Pictures\AMD pix\156.JPG"/>
          <p:cNvPicPr/>
          <p:nvPr/>
        </p:nvPicPr>
        <p:blipFill>
          <a:blip r:embed="rId1"/>
          <a:stretch/>
        </p:blipFill>
        <p:spPr>
          <a:xfrm>
            <a:off x="4572000" y="320040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ne Need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white pine native to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throughout Pennsylv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slightly acid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ak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 to northern hemi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oth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le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 to Asia but found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oth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ak leaves will do better than the other lea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gh test to determin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wit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a piece of leaf in the c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sit to see if it will sink or flo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is for each le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38:57Z</dcterms:created>
  <dc:creator>Altoona Mirror</dc:creator>
  <dc:description/>
  <dc:language>en-US</dc:language>
  <cp:lastModifiedBy>student1219</cp:lastModifiedBy>
  <dcterms:modified xsi:type="dcterms:W3CDTF">2011-03-04T21:56:48Z</dcterms:modified>
  <cp:revision>105</cp:revision>
  <dc:subject/>
  <dc:title>Which leading brand of battery will last the longest?</dc:title>
</cp:coreProperties>
</file>